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8267F-14A9-438D-B4BB-9C1A822A50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l in the blank as needed </a:t>
            </a:r>
            <a:endParaRPr b="0" lang="en-US" sz="16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blic education {substitute private education goals, if appropriate} was built as a democratic institution, with one of its goals being to educate future citizen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our students not just to become more knowledgeable, but to share that knowledge with others. We also want them to be great digital citizens who know the difference between quoting someone with attribution and plagiarism. We want them to use citation as a way of leaving tracks of their thinking, not to memorize where to put the commas. We want them to be productive with their time and industrious with their output.</a:t>
            </a: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ll that rigorous learning, we’re still holding onto the library’s core values of serving the personal growth of our kids. We want kids to know that the library is a place that values who they are and what they are interested in. We want their work to be personally pleasing to them. We want their work to be aesthetically pleasing, too.</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all that rigorous learning, we’re still holding onto the library’s core values of serving the personal growth of our kids. We want kids to know that the library is a place that values who they are and what they are interested in. We want their work to be personally pleasing to them. We want their work to be aesthetically pleasing, too.</a:t>
            </a:r>
            <a:endParaRPr b="0" lang="en-US" sz="16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ant our kids to think … create … share … and grow!</a:t>
            </a:r>
            <a:endParaRPr b="0" lang="en-US" sz="16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we meet those four Standards? Through four pathway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ILLS – the specific behaviors and strategies kids use to find, evaluate, process, and share inform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OSITIONS – Like character education or Habits of Mind, these are the behaviors – like perseverence, flexibility, taking an alternate path, or creativity – that kids can develop in school and carry over into new situations and scenario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ASSESSMENTS – We want our kids to have a strong sense of the quality of their own work, not just rely in parents, educators, administrators, or other adults to tell them. We want them to have an internal barometer, and we can help students develop this when we ask them to reflect throughout the process and at the conclusion of a research projec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RESPONSIBILITIES – We want kids to be in the driver’s seat of their own learning. And we want them to be good drivers, too! So the Standards give students the opportunities to practice being responsible for their own learning.</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we meet those four Standards? Through four pathway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KILLS – the specific behaviors and strategies kids use to find, evaluate, process, and share informatio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POSITIONS – Like character education or Habits of Mind, these are the behaviors – like perseverence, flexibility, taking an alternate path, or creativity – that kids can develop in school and carry over into new situations and scenario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LF-ASSESSMENTS – We want our kids to have a strong sense of the quality of their own work, not just rely in parents, educators, administrators, or other adults to tell them. We want them to have an internal barometer, and we can help students develop this when we ask them to reflect throughout the process and at the conclusion of a research projec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 RESPONSIBILITIES – We want kids to be in the driver’s seat of their own learning. And we want them to be good drivers, too! So the Standards give students the opportunities to practice being responsible for their own learning.</a:t>
            </a:r>
            <a:endParaRPr b="0" lang="en-US" sz="16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ive a quick overview of each:</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SL Standards of 2007 = comprehensive vision for what 21st-century learning looks like in school librarie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they impact kids/students? They help us get specific about the constellation of skills, behaviors, responsibilities, and abilities to assess one’s own work so we can become stronger at supporting robust student learn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can you do to support this vision of learning? We’ll talk about how we can work together to contribute to strong student learning.</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d at the end, we’ll invite your questions and conversation</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ize this to fit local need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fine NETS = International Society for Technology in Education’s National Technology Standards for Students (http://www.iste.org/nets). Some districts/states have adopted this as their technology standards. Some states, like Michigan, have instead created their own local versions of thi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21 = Partnership for 21st Century Skills (21stcenturyskills.org), a coalition of educational partners including many tech leaders (e.g., Dell, Cisco, Apple) and educational organizations (e.g., ASCD, AASL). We are proud that AASL’s Executive Director, Julie Walker, will chair P21 in the coming year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districts use NETS or P21 as guiding documents as they begin on their journey toward school reform that leads to robust, relevant learning for an uncertain future.</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can view these documents at the URLs given.</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any relevant local connections here, or add an additional slide</a:t>
            </a:r>
            <a:endParaRPr b="0" lang="en-US" sz="16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ggestion: Connect inquiry with students’ natural curiosity, their inner drive to learn, as opposed to reporting facts and filling out workshee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thical behavior – connect with what parents already know about the online world and the need for better digital citizenship, tracking of sources, honest use of information, anti-cyberbullying, etc. In our YouTube/Wikipedia/mashup era, the rules are in flux, the consequences for mis-use can be scarier. Just like our kids need reminders about successful offline behavior and character, we need to support their developing understanding of successful ONLINE behavior</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ppropriate, connect to parents’ own tech use in the workplace. What kinds of skills are they expected to have? How did they gain those? What kinds of activities would have been useful for them to have had in K-12 to prepare for this? How do skills go beyond point-and-click and into being savvy consumers and producers of conten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equitable access, you might touch on access being more than a number of computers. We also want to level the playing field and make sure all kids have access to great information in all formats (multimedia, print, digital, graphic novels, series books, pleasure reading, magazines, resources for learning, etc.). Information access is a civil right!</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literacy has been a long-standing goal of our library/library system. As the Internet continues to grow in size and in influence in our daily lives, you’ve probably experienced that it’s getting harder to quickly and efficiently find and make sense of information. And the Internet isn’t just text anymore; it’s also images and video and audio. And making sense of the content, accuracy, relevance, and validity of those resources requires savvy about resource evaluation. Learning to do that consistently over time takes both classroom teachers and school librarian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re also deeply invested in making sure that our students become independent learners so that they can be come high-functioning independent adults. We can scaffold learning experiences for them, gradually holding students more and more responsible for their own learning so that students develop the strength over time to take the reins and confidently function independently in their information processing and decision-making. </a:t>
            </a:r>
            <a:endParaRPr b="0" lang="en-US" sz="16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your workplace or that of your family, you’ve probably noticed that employees work less and less as individuals and more and more in teams. In education, we’re recognizing that when learning has a social component, information and knowledge can be pooled, and collective knowledge can result. We realize that there is value in teamwork.</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nally, it probably comes as no surprise that I believe in the power of school libraries to positively contribute to student learning. We’re done being a book warehouse or keepers of the books. We see our library as a dynamic hub for deep, rich learning, where classroom teachers, students, and librarians work together to make great learning happen. </a:t>
            </a: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K, we’ve talked about the foundational beliefs that we all share. Now we’ll look at the four standards that build off of those Common Beliefs.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ndard #1 points out that our students should be putting their curiosity and sense of discovery to work to explore content, engage in critical thinking, and, as a result, gain knowledge. We’re looking beyond gathering facts – we want our students to take those facts, mash them up, figure out their patterns, and draw a conclusion. Life isn’t a multiple-choice test: our students need practice identifying issues, researching them, and deciding on a course of action.</a:t>
            </a: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lain each, connecting each point to existing practices/goals/visions of the school or distric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in Standard 2, we continue the thinking process. We don’t just want our students to solve the problem at hand, but to be able to put those problem-solving experiences to work when they encounter new situations, too. Just as accountants first learned to balance their own checkbooks, then to transfer those core ideas into more elaborate accounting, our students need to be able to take their thinking skills into new situations as adults.</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also want to avoid projects where students merely restate what someone else has already said. We want them to have a sense of discovery and creation – that they have reached an individual, valuable conclusion.</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51A132-32CC-4755-8741-862CC3C16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397552-102F-459E-B979-2A47CF9A9E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74673-9148-4A86-B512-CFE16AD14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C30EB-46C4-477A-A429-FE24C7CE2F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8CCAB-6005-4B28-B297-38596BD28B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492CC-F20E-4EBD-B843-8DAADFEC03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0D88E1-E142-4BF4-BFCB-8E29A1E05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76711A-A010-44AA-BE13-0A11478E3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FF036-FB35-48F5-BE28-DE38952AE7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0561B-6FF9-43EE-B1E4-D8C3BF680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437B9-2409-4443-BB55-9225545E5F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A80C-CEB2-4A03-B6AC-F8B583173E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7ACF1-FEA4-4389-AB20-7B724786C2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10159920" cy="7620120"/>
          </a:xfrm>
          <a:prstGeom prst="rect">
            <a:avLst/>
          </a:prstGeom>
          <a:ln w="0">
            <a:noFill/>
          </a:ln>
        </p:spPr>
      </p:pic>
      <p:sp>
        <p:nvSpPr>
          <p:cNvPr id="49" name="PlaceHolder 1"/>
          <p:cNvSpPr>
            <a:spLocks noGrp="1"/>
          </p:cNvSpPr>
          <p:nvPr>
            <p:ph type="title"/>
          </p:nvPr>
        </p:nvSpPr>
        <p:spPr>
          <a:xfrm>
            <a:off x="1343160" y="1941120"/>
            <a:ext cx="6486480" cy="15318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Our school library and the AASL </a:t>
            </a:r>
            <a:r>
              <a:rPr b="0" i="1" lang="en-US" sz="4400" spc="-1" strike="noStrike">
                <a:solidFill>
                  <a:srgbClr val="ffffff"/>
                </a:solidFill>
                <a:latin typeface="Arial"/>
              </a:rPr>
              <a:t>Standards</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343160" y="3575160"/>
            <a:ext cx="6486480" cy="175104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cb3d7"/>
                </a:solidFill>
                <a:latin typeface="Arial"/>
              </a:rPr>
              <a:t>A Presentation for _____</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0" y="0"/>
            <a:ext cx="10159920" cy="7620120"/>
          </a:xfrm>
          <a:prstGeom prst="rect">
            <a:avLst/>
          </a:prstGeom>
          <a:ln w="0">
            <a:noFill/>
          </a:ln>
        </p:spPr>
      </p:pic>
      <p:sp>
        <p:nvSpPr>
          <p:cNvPr id="76"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Standard #3</a:t>
            </a:r>
            <a:endParaRPr b="0" lang="en-US" sz="5000" spc="-1" strike="noStrike">
              <a:solidFill>
                <a:srgbClr val="000000"/>
              </a:solidFill>
              <a:latin typeface="Times New Roman"/>
            </a:endParaRPr>
          </a:p>
        </p:txBody>
      </p:sp>
      <p:sp>
        <p:nvSpPr>
          <p:cNvPr id="77" name=""/>
          <p:cNvSpPr/>
          <p:nvPr/>
        </p:nvSpPr>
        <p:spPr>
          <a:xfrm>
            <a:off x="552600" y="2039760"/>
            <a:ext cx="9055080" cy="3125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ers use skills, resources, and tools to share knowledge and participate ethically and productively as members of our democratic society.</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10159920" cy="7620120"/>
          </a:xfrm>
          <a:prstGeom prst="rect">
            <a:avLst/>
          </a:prstGeom>
          <a:ln w="0">
            <a:noFill/>
          </a:ln>
        </p:spPr>
      </p:pic>
      <p:sp>
        <p:nvSpPr>
          <p:cNvPr id="79"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Standard #4</a:t>
            </a:r>
            <a:endParaRPr b="0" lang="en-US" sz="5000" spc="-1" strike="noStrike">
              <a:solidFill>
                <a:srgbClr val="000000"/>
              </a:solidFill>
              <a:latin typeface="Times New Roman"/>
            </a:endParaRPr>
          </a:p>
        </p:txBody>
      </p:sp>
      <p:sp>
        <p:nvSpPr>
          <p:cNvPr id="80" name=""/>
          <p:cNvSpPr/>
          <p:nvPr/>
        </p:nvSpPr>
        <p:spPr>
          <a:xfrm>
            <a:off x="552600" y="2039760"/>
            <a:ext cx="9055080" cy="2084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ers use skills, resources, and tools to personal and aesthetic growth.</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0" y="0"/>
            <a:ext cx="10159920" cy="7620120"/>
          </a:xfrm>
          <a:prstGeom prst="rect">
            <a:avLst/>
          </a:prstGeom>
          <a:ln w="0">
            <a:noFill/>
          </a:ln>
        </p:spPr>
      </p:pic>
      <p:sp>
        <p:nvSpPr>
          <p:cNvPr id="82" name="PlaceHolder 1"/>
          <p:cNvSpPr>
            <a:spLocks noGrp="1"/>
          </p:cNvSpPr>
          <p:nvPr>
            <p:ph type="title"/>
          </p:nvPr>
        </p:nvSpPr>
        <p:spPr>
          <a:xfrm>
            <a:off x="552240" y="355320"/>
            <a:ext cx="9055080" cy="463212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Sound like a lot? </a:t>
            </a:r>
            <a:br>
              <a:rPr sz="5000"/>
            </a:br>
            <a:br>
              <a:rPr sz="5000"/>
            </a:br>
            <a:r>
              <a:rPr b="1" lang="en-US" sz="5000" spc="-1" strike="noStrike">
                <a:solidFill>
                  <a:srgbClr val="e46c0a"/>
                </a:solidFill>
                <a:latin typeface="Arial"/>
              </a:rPr>
              <a:t>Don’t worry! </a:t>
            </a:r>
            <a:br>
              <a:rPr sz="5000"/>
            </a:br>
            <a:br>
              <a:rPr sz="5000"/>
            </a:br>
            <a:r>
              <a:rPr b="1" lang="en-US" sz="5000" spc="-1" strike="noStrike">
                <a:solidFill>
                  <a:srgbClr val="e46c0a"/>
                </a:solidFill>
                <a:latin typeface="Arial"/>
              </a:rPr>
              <a:t>Just remember … </a:t>
            </a:r>
            <a:endParaRPr b="0" lang="en-US" sz="5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39640" y="0"/>
            <a:ext cx="9134640" cy="7620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10159920" cy="7620120"/>
          </a:xfrm>
          <a:prstGeom prst="rect">
            <a:avLst/>
          </a:prstGeom>
          <a:ln w="0">
            <a:noFill/>
          </a:ln>
        </p:spPr>
      </p:pic>
      <p:sp>
        <p:nvSpPr>
          <p:cNvPr id="85"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Why?</a:t>
            </a:r>
            <a:endParaRPr b="0" lang="en-US" sz="5000" spc="-1" strike="noStrike">
              <a:solidFill>
                <a:srgbClr val="000000"/>
              </a:solidFill>
              <a:latin typeface="Times New Roman"/>
            </a:endParaRPr>
          </a:p>
        </p:txBody>
      </p:sp>
      <p:sp>
        <p:nvSpPr>
          <p:cNvPr id="86" name=""/>
          <p:cNvSpPr/>
          <p:nvPr/>
        </p:nvSpPr>
        <p:spPr>
          <a:xfrm>
            <a:off x="552600" y="2039760"/>
            <a:ext cx="9055080" cy="33418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Skill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Disposition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Self-Assessments</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Student Responsibilities </a:t>
            </a: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10159920" cy="7620120"/>
          </a:xfrm>
          <a:prstGeom prst="rect">
            <a:avLst/>
          </a:prstGeom>
          <a:ln w="0">
            <a:noFill/>
          </a:ln>
        </p:spPr>
      </p:pic>
      <p:sp>
        <p:nvSpPr>
          <p:cNvPr id="88" name="PlaceHolder 1"/>
          <p:cNvSpPr>
            <a:spLocks noGrp="1"/>
          </p:cNvSpPr>
          <p:nvPr>
            <p:ph type="title"/>
          </p:nvPr>
        </p:nvSpPr>
        <p:spPr>
          <a:xfrm>
            <a:off x="552240" y="355680"/>
            <a:ext cx="9055080" cy="223992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Questions and </a:t>
            </a:r>
            <a:br>
              <a:rPr sz="5000"/>
            </a:br>
            <a:r>
              <a:rPr b="1" lang="en-US" sz="5000" spc="-1" strike="noStrike">
                <a:solidFill>
                  <a:srgbClr val="e46c0a"/>
                </a:solidFill>
                <a:latin typeface="Arial"/>
              </a:rPr>
              <a:t>Discussion</a:t>
            </a:r>
            <a:endParaRPr b="0" lang="en-US" sz="5000" spc="-1" strike="noStrike">
              <a:solidFill>
                <a:srgbClr val="000000"/>
              </a:solidFill>
              <a:latin typeface="Times New Roman"/>
            </a:endParaRPr>
          </a:p>
        </p:txBody>
      </p:sp>
      <p:sp>
        <p:nvSpPr>
          <p:cNvPr id="89" name=""/>
          <p:cNvSpPr/>
          <p:nvPr/>
        </p:nvSpPr>
        <p:spPr>
          <a:xfrm>
            <a:off x="552600" y="2039760"/>
            <a:ext cx="9055080" cy="3153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 more:</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www.ala.org/aasl/standard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ook for the link on our library Web si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10159920" cy="7620120"/>
          </a:xfrm>
          <a:prstGeom prst="rect">
            <a:avLst/>
          </a:prstGeom>
          <a:ln w="0">
            <a:noFill/>
          </a:ln>
        </p:spPr>
      </p:pic>
      <p:sp>
        <p:nvSpPr>
          <p:cNvPr id="52"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Today’s Agenda</a:t>
            </a:r>
            <a:endParaRPr b="0" lang="en-US" sz="5000" spc="-1" strike="noStrike">
              <a:solidFill>
                <a:srgbClr val="000000"/>
              </a:solidFill>
              <a:latin typeface="Times New Roman"/>
            </a:endParaRPr>
          </a:p>
        </p:txBody>
      </p:sp>
      <p:sp>
        <p:nvSpPr>
          <p:cNvPr id="53" name=""/>
          <p:cNvSpPr/>
          <p:nvPr/>
        </p:nvSpPr>
        <p:spPr>
          <a:xfrm>
            <a:off x="552600" y="1828800"/>
            <a:ext cx="9055080" cy="208404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What are the AASL </a:t>
            </a:r>
            <a:r>
              <a:rPr b="1" i="1" lang="en-US" sz="3600" spc="-1" strike="noStrike">
                <a:solidFill>
                  <a:srgbClr val="17375e"/>
                </a:solidFill>
                <a:latin typeface="Arial"/>
              </a:rPr>
              <a:t>Standards? </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How do they impact {our students / your children}?</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Questions and convers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10159920" cy="7620120"/>
          </a:xfrm>
          <a:prstGeom prst="rect">
            <a:avLst/>
          </a:prstGeom>
          <a:ln w="0">
            <a:noFill/>
          </a:ln>
        </p:spPr>
      </p:pic>
      <p:sp>
        <p:nvSpPr>
          <p:cNvPr id="55"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46c0a"/>
                </a:solidFill>
                <a:latin typeface="Arial"/>
              </a:rPr>
              <a:t>What are the AASL </a:t>
            </a:r>
            <a:r>
              <a:rPr b="1" i="1" lang="en-US" sz="4600" spc="-1" strike="noStrike">
                <a:solidFill>
                  <a:srgbClr val="e46c0a"/>
                </a:solidFill>
                <a:latin typeface="Arial"/>
              </a:rPr>
              <a:t>Standards?</a:t>
            </a:r>
            <a:endParaRPr b="0" lang="en-US" sz="4600" spc="-1" strike="noStrike">
              <a:solidFill>
                <a:srgbClr val="000000"/>
              </a:solidFill>
              <a:latin typeface="Times New Roman"/>
            </a:endParaRPr>
          </a:p>
        </p:txBody>
      </p:sp>
      <p:sp>
        <p:nvSpPr>
          <p:cNvPr id="56" name=""/>
          <p:cNvSpPr/>
          <p:nvPr/>
        </p:nvSpPr>
        <p:spPr>
          <a:xfrm>
            <a:off x="552600" y="1828800"/>
            <a:ext cx="9055080" cy="4773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Comprehensive vision for student learning in libraries</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Consistent with our district vision</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Compatible with NETS, P21</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Prepare students for a future of change</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Available at ala.org/aasl/standards</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Other points as useful}</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10159920" cy="7620120"/>
          </a:xfrm>
          <a:prstGeom prst="rect">
            <a:avLst/>
          </a:prstGeom>
          <a:ln w="0">
            <a:noFill/>
          </a:ln>
        </p:spPr>
      </p:pic>
      <p:sp>
        <p:nvSpPr>
          <p:cNvPr id="58"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46c0a"/>
                </a:solidFill>
                <a:latin typeface="Arial"/>
              </a:rPr>
              <a:t>9 Common Beliefs: </a:t>
            </a:r>
            <a:br>
              <a:rPr sz="4600"/>
            </a:br>
            <a:r>
              <a:rPr b="1" lang="en-US" sz="4600" spc="-1" strike="noStrike">
                <a:solidFill>
                  <a:srgbClr val="e46c0a"/>
                </a:solidFill>
                <a:latin typeface="Arial"/>
              </a:rPr>
              <a:t>A Foundation</a:t>
            </a:r>
            <a:endParaRPr b="0" lang="en-US" sz="4600" spc="-1" strike="noStrike">
              <a:solidFill>
                <a:srgbClr val="000000"/>
              </a:solidFill>
              <a:latin typeface="Times New Roman"/>
            </a:endParaRPr>
          </a:p>
        </p:txBody>
      </p:sp>
      <p:sp>
        <p:nvSpPr>
          <p:cNvPr id="59" name=""/>
          <p:cNvSpPr/>
          <p:nvPr/>
        </p:nvSpPr>
        <p:spPr>
          <a:xfrm>
            <a:off x="552600" y="1828800"/>
            <a:ext cx="9055080" cy="36468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Reading is a window to the world.</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Inquiry provides a framework for learning.</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Ethical behavior in the use of information must be taught.</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10159920" cy="7620120"/>
          </a:xfrm>
          <a:prstGeom prst="rect">
            <a:avLst/>
          </a:prstGeom>
          <a:ln w="0">
            <a:noFill/>
          </a:ln>
        </p:spPr>
      </p:pic>
      <p:sp>
        <p:nvSpPr>
          <p:cNvPr id="61"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46c0a"/>
                </a:solidFill>
                <a:latin typeface="Arial"/>
              </a:rPr>
              <a:t>9 Common Beliefs: </a:t>
            </a:r>
            <a:br>
              <a:rPr sz="4600"/>
            </a:br>
            <a:r>
              <a:rPr b="1" lang="en-US" sz="4600" spc="-1" strike="noStrike">
                <a:solidFill>
                  <a:srgbClr val="e46c0a"/>
                </a:solidFill>
                <a:latin typeface="Arial"/>
              </a:rPr>
              <a:t>A Foundation</a:t>
            </a:r>
            <a:endParaRPr b="0" lang="en-US" sz="4600" spc="-1" strike="noStrike">
              <a:solidFill>
                <a:srgbClr val="000000"/>
              </a:solidFill>
              <a:latin typeface="Times New Roman"/>
            </a:endParaRPr>
          </a:p>
        </p:txBody>
      </p:sp>
      <p:sp>
        <p:nvSpPr>
          <p:cNvPr id="62" name=""/>
          <p:cNvSpPr/>
          <p:nvPr/>
        </p:nvSpPr>
        <p:spPr>
          <a:xfrm>
            <a:off x="552600" y="2039760"/>
            <a:ext cx="9055080" cy="312588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Technology skills are crucial for future employment needs. </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Equitable access is a key component for education.</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0"/>
            <a:ext cx="10159920" cy="7620120"/>
          </a:xfrm>
          <a:prstGeom prst="rect">
            <a:avLst/>
          </a:prstGeom>
          <a:ln w="0">
            <a:noFill/>
          </a:ln>
        </p:spPr>
      </p:pic>
      <p:sp>
        <p:nvSpPr>
          <p:cNvPr id="64"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46c0a"/>
                </a:solidFill>
                <a:latin typeface="Arial"/>
              </a:rPr>
              <a:t>9 Common Beliefs: </a:t>
            </a:r>
            <a:br>
              <a:rPr sz="4600"/>
            </a:br>
            <a:r>
              <a:rPr b="1" lang="en-US" sz="4600" spc="-1" strike="noStrike">
                <a:solidFill>
                  <a:srgbClr val="e46c0a"/>
                </a:solidFill>
                <a:latin typeface="Arial"/>
              </a:rPr>
              <a:t>A Foundation</a:t>
            </a:r>
            <a:endParaRPr b="0" lang="en-US" sz="4600" spc="-1" strike="noStrike">
              <a:solidFill>
                <a:srgbClr val="000000"/>
              </a:solidFill>
              <a:latin typeface="Times New Roman"/>
            </a:endParaRPr>
          </a:p>
        </p:txBody>
      </p:sp>
      <p:sp>
        <p:nvSpPr>
          <p:cNvPr id="65" name=""/>
          <p:cNvSpPr/>
          <p:nvPr/>
        </p:nvSpPr>
        <p:spPr>
          <a:xfrm>
            <a:off x="552600" y="2039760"/>
            <a:ext cx="9055080" cy="429660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The definition of information literacy has become more complex as resources and technologies have changed.</a:t>
            </a:r>
            <a:endParaRPr b="0" lang="en-US" sz="33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17375e"/>
                </a:solidFill>
                <a:latin typeface="Arial"/>
              </a:rPr>
              <a:t>The continuing expansion of information demands that all individuals acquire the thinking skills that will enable them to learn on their own.</a:t>
            </a: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10159920" cy="7620120"/>
          </a:xfrm>
          <a:prstGeom prst="rect">
            <a:avLst/>
          </a:prstGeom>
          <a:ln w="0">
            <a:noFill/>
          </a:ln>
        </p:spPr>
      </p:pic>
      <p:sp>
        <p:nvSpPr>
          <p:cNvPr id="67"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e46c0a"/>
                </a:solidFill>
                <a:latin typeface="Arial"/>
              </a:rPr>
              <a:t>9 Common Beliefs: </a:t>
            </a:r>
            <a:br>
              <a:rPr sz="4600"/>
            </a:br>
            <a:r>
              <a:rPr b="1" lang="en-US" sz="4600" spc="-1" strike="noStrike">
                <a:solidFill>
                  <a:srgbClr val="e46c0a"/>
                </a:solidFill>
                <a:latin typeface="Arial"/>
              </a:rPr>
              <a:t>A Foundation</a:t>
            </a:r>
            <a:endParaRPr b="0" lang="en-US" sz="4600" spc="-1" strike="noStrike">
              <a:solidFill>
                <a:srgbClr val="000000"/>
              </a:solidFill>
              <a:latin typeface="Times New Roman"/>
            </a:endParaRPr>
          </a:p>
        </p:txBody>
      </p:sp>
      <p:sp>
        <p:nvSpPr>
          <p:cNvPr id="68" name=""/>
          <p:cNvSpPr/>
          <p:nvPr/>
        </p:nvSpPr>
        <p:spPr>
          <a:xfrm>
            <a:off x="552600" y="2039760"/>
            <a:ext cx="9055080" cy="26049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ing has a social context.</a:t>
            </a:r>
            <a:endParaRPr b="0" lang="en-US" sz="3600" spc="-1" strike="noStrike">
              <a:solidFill>
                <a:srgbClr val="000000"/>
              </a:solidFill>
              <a:latin typeface="Times New Roman"/>
            </a:endParaRPr>
          </a:p>
          <a:p>
            <a:pPr lvl="1" marL="457200" indent="-342720">
              <a:lnSpc>
                <a:spcPct val="95000"/>
              </a:lnSpc>
              <a:buClr>
                <a:srgbClr val="17375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School libraries are essential to the development of learning skills.</a:t>
            </a: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10159920" cy="7620120"/>
          </a:xfrm>
          <a:prstGeom prst="rect">
            <a:avLst/>
          </a:prstGeom>
          <a:ln w="0">
            <a:noFill/>
          </a:ln>
        </p:spPr>
      </p:pic>
      <p:sp>
        <p:nvSpPr>
          <p:cNvPr id="70"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Standard #1</a:t>
            </a:r>
            <a:endParaRPr b="0" lang="en-US" sz="5000" spc="-1" strike="noStrike">
              <a:solidFill>
                <a:srgbClr val="000000"/>
              </a:solidFill>
              <a:latin typeface="Times New Roman"/>
            </a:endParaRPr>
          </a:p>
        </p:txBody>
      </p:sp>
      <p:sp>
        <p:nvSpPr>
          <p:cNvPr id="71" name=""/>
          <p:cNvSpPr/>
          <p:nvPr/>
        </p:nvSpPr>
        <p:spPr>
          <a:xfrm>
            <a:off x="552600" y="2039760"/>
            <a:ext cx="9055080" cy="15631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ers use skills, resources, and tools to inquire, think critically, and gain knowledg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10159920" cy="7620120"/>
          </a:xfrm>
          <a:prstGeom prst="rect">
            <a:avLst/>
          </a:prstGeom>
          <a:ln w="0">
            <a:noFill/>
          </a:ln>
        </p:spPr>
      </p:pic>
      <p:sp>
        <p:nvSpPr>
          <p:cNvPr id="73" name="PlaceHolder 1"/>
          <p:cNvSpPr>
            <a:spLocks noGrp="1"/>
          </p:cNvSpPr>
          <p:nvPr>
            <p:ph type="title"/>
          </p:nvPr>
        </p:nvSpPr>
        <p:spPr>
          <a:xfrm>
            <a:off x="552240" y="355320"/>
            <a:ext cx="9055080" cy="1168200"/>
          </a:xfrm>
          <a:prstGeom prst="rect">
            <a:avLst/>
          </a:prstGeom>
          <a:noFill/>
          <a:ln w="0">
            <a:noFill/>
          </a:ln>
        </p:spPr>
        <p:txBody>
          <a:bodyPr lIns="0" rIns="0" tIns="0" bIns="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e46c0a"/>
                </a:solidFill>
                <a:latin typeface="Arial"/>
              </a:rPr>
              <a:t>Standard #2</a:t>
            </a:r>
            <a:endParaRPr b="0" lang="en-US" sz="5000" spc="-1" strike="noStrike">
              <a:solidFill>
                <a:srgbClr val="000000"/>
              </a:solidFill>
              <a:latin typeface="Times New Roman"/>
            </a:endParaRPr>
          </a:p>
        </p:txBody>
      </p:sp>
      <p:sp>
        <p:nvSpPr>
          <p:cNvPr id="74" name=""/>
          <p:cNvSpPr/>
          <p:nvPr/>
        </p:nvSpPr>
        <p:spPr>
          <a:xfrm>
            <a:off x="552600" y="2039760"/>
            <a:ext cx="9055080" cy="20840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7375e"/>
                </a:solidFill>
                <a:latin typeface="Arial"/>
              </a:rPr>
              <a:t>Learners use skills, resources, and tools to draw conclusions, make informed decisions, apply knowledge to new situations, and create new knowledge.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